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1B32-E101-49BC-907D-3AFBA7E7D50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F29E-BD46-4602-9438-510E6E3E7D7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B967-EF4D-41E0-A667-9867382AD54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8C50-3A26-4BF1-B43B-15FD55FF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F65B-CCC4-44B1-8130-5902956E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74F9-DF94-4334-9961-A357D705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E4B-E0BA-4585-9F8F-9D9B1169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EFD5-2274-44D5-AC61-F09E0797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565C-5457-442A-890F-4596ADBF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B47E-5288-4A71-8681-B693EE76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8412-E27E-40FB-8C6F-824C8A39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F450-129B-44D1-9DE0-3C30592F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5ABF-6B87-4923-BD66-9908587E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E825-1A9B-464F-81F2-02212E4A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51C8-D41B-4CD9-AD58-56540453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FB7F-979E-4A0F-8763-65D858C3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BF1D-1E45-48F6-B067-7316D908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FBFC-7D21-4550-85A8-025F4676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D04F-7714-4256-B433-4EAC2917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A942-57A2-4C6C-A672-DC6368E4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6DDFA-F89E-44B6-BC8E-15EF8672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C1B35-5C20-499C-9DA8-3CB37E9E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8B23C-4CF0-4ECE-919A-5704E63B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EF075-EEB9-490F-AB01-224D4844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19A17-0455-4E47-B30F-7073EEAA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47BC-2C57-475E-A2BD-3BFCB215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E3102-A996-44F5-8DC4-BB84961E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A7AA7-0B7F-425C-AE60-33598151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773B4-C44A-4FB6-8C5F-6E84B3DF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FB717-A939-40D0-A903-541C4EAB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857F2-8A7B-4CBB-8A3D-623C2FAD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B0E32-8764-4B01-B275-FA3C0639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1F88D-D2C7-4B52-BC46-6818916C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873E0-9344-4B7B-8D11-0400F9F9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841B6-9E1E-4319-9B3A-1034D579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7DB2C-E04D-41AF-9B97-2C37DCC4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B549-7C3A-4FCA-99DB-21AA9369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75D1B-71C6-47C6-8A03-8404A308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0BFF9-50CB-4C2A-820B-395CED6D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F8B5F-8DC1-4920-A048-93F12A3C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4FDBE-70AF-4DFA-BDE0-87E5A131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79A59-2034-4FEB-A54E-86991FCB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154F4-676C-4425-9A64-D92A8A23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39B74-5EA0-4EB8-9537-26042C5A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13A3C-25B2-4602-A106-F4121740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670FE-FAC1-4472-982E-5DDAE2EA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333C1-41F0-4FC4-BAAA-2D075640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4C0B-4FE1-4DFC-896E-72B47415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030D4-1108-4806-90B6-96D665A2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73A2C-5157-4626-9F87-7F4310A0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BB084-2A64-415A-884D-C33C0FFD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1B817-F7B5-4F8D-8579-86465F7D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B7227-F28D-4996-8332-3D1DADEB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16EE9-9525-4E96-A475-40FA738D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D3476-C971-4F1A-B05A-8D65EB98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103DA-F5D4-4AA3-85F6-075A7901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AC9D6-3F01-4681-9818-957F76C6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84F35-AFD0-4267-A471-A7473B54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6A60-10B7-4A1A-91D9-D77B88C2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239F6-8645-4FEB-8680-EF1B6490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CBD8D-E04B-4549-9FF6-7BB6DF04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27D27-A82C-49A3-941D-8314E2B2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F3A55-41B1-4FF4-91EE-E89A8C88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65120-AC9A-4BC5-8219-9B55A2AC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8D93F-20A7-4188-ADC1-AC6978E1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F8EF5-9927-47E2-91D2-4763DA60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84114-8FD2-42E1-989F-0DB76251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3A9B6-809F-4694-9DE2-FE9584C8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F4DC8-0FE8-477E-941B-1BAC037E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77E1-62D2-4C82-92C0-8E65F672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929E0-4318-48FE-B371-2CEC22AC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5CF47-8CCD-4EF8-AAD4-E85D08B1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B92BD-3334-4220-B2A8-E6E36B47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F68F-6139-4E51-BDF6-E7CC8D9E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E67C-E09D-496A-AB64-2591C876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386D-89FF-4367-89DD-21AFE1E41716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3CBB-43B4-4085-8FAD-4413A8A1054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CB9D-D559-439F-9AD7-5C4FF505ACC0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D45C-CF8D-4709-8F2E-68FCEC39B85F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6A85-0043-4B64-BEAB-4AC1AB2E73F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3A92-5365-43B5-8FC1-257052CBF16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57C7-AA43-4B0A-A77C-F1CDC8B7D682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04C8-382B-48E9-9E34-2ED58005096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D246-483E-4565-A41B-C02673D2DD93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86F5-8CDE-4F13-AB0D-FF81322C18F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50CB-A344-4E2A-8552-2A7C94989739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CAA9-A9EB-451C-8369-98F0153E358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Julho/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agost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06388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334800" y="1268280"/>
            <a:ext cx="10801440" cy="52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388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Julh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51000" y="6469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m 1" descr=""/>
          <p:cNvPicPr/>
          <p:nvPr/>
        </p:nvPicPr>
        <p:blipFill>
          <a:blip r:embed="rId1"/>
          <a:stretch/>
        </p:blipFill>
        <p:spPr>
          <a:xfrm>
            <a:off x="351000" y="1484280"/>
            <a:ext cx="10785240" cy="49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34800" y="731880"/>
            <a:ext cx="1080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63520" y="6483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1" descr=""/>
          <p:cNvPicPr/>
          <p:nvPr/>
        </p:nvPicPr>
        <p:blipFill>
          <a:blip r:embed="rId1"/>
          <a:stretch/>
        </p:blipFill>
        <p:spPr>
          <a:xfrm>
            <a:off x="334800" y="1450800"/>
            <a:ext cx="108014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85840" y="836640"/>
            <a:ext cx="108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lho (2016 e 2017) – Em R$ milhões de Jul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85840" y="64641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301680" y="1413000"/>
            <a:ext cx="1083456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lh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magem 1" descr=""/>
          <p:cNvPicPr/>
          <p:nvPr/>
        </p:nvPicPr>
        <p:blipFill>
          <a:blip r:embed="rId1"/>
          <a:stretch/>
        </p:blipFill>
        <p:spPr>
          <a:xfrm>
            <a:off x="334800" y="1270080"/>
            <a:ext cx="108014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lho (2016 e 2017) – Em R$ milhões de Jul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0" y="633744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m 1" descr=""/>
          <p:cNvPicPr/>
          <p:nvPr/>
        </p:nvPicPr>
        <p:blipFill>
          <a:blip r:embed="rId1"/>
          <a:stretch/>
        </p:blipFill>
        <p:spPr>
          <a:xfrm>
            <a:off x="334800" y="1338120"/>
            <a:ext cx="1080144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3880" y="836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e Julh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m 1" descr=""/>
          <p:cNvPicPr/>
          <p:nvPr/>
        </p:nvPicPr>
        <p:blipFill>
          <a:blip r:embed="rId1"/>
          <a:stretch/>
        </p:blipFill>
        <p:spPr>
          <a:xfrm>
            <a:off x="334800" y="1535040"/>
            <a:ext cx="108014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Julh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12840" y="645480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334800" y="1417680"/>
            <a:ext cx="10801440" cy="5106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Zila de Jesus de Oliveira - MPS</cp:lastModifiedBy>
  <cp:lastPrinted>2017-01-26T10:42:46Z</cp:lastPrinted>
  <dcterms:modified xsi:type="dcterms:W3CDTF">2017-08-23T18:41:30Z</dcterms:modified>
  <cp:revision>430</cp:revision>
  <dc:subject/>
  <dc:title>Demografia</dc:title>
</cp:coreProperties>
</file>